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340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F0E3F7D-E719-4381-9681-F9AB216AD6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幼児安全法に新しく加えられた内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近年、国内外において多くの災害が起こ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こどもは、災害によってこころとからだに影響をうけやすいが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いつも近くに保護者がいることから、十分なケアが行われてこなか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「災害時の乳幼児支援」では、災害時の子どもとその保護者の避難所で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生活支援の焦点を当てた講習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2C9C-0F59-43ED-9B74-3A2FB5D084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免疫や抵抗力の弱い乳幼児が、避難所生活によって体調を崩すこと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風邪などの感染症や、埃などによるぜんそくやアレルギーにも注意が必要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発熱や、下痢、ほ乳力の低下による脱水症状にも注意を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子どもは、体調不良を言葉で訴えることができないので、ほ乳や食事、排泄の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態、機嫌など日常の様子をよく観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F032-F7F8-4BEB-9512-C58A2ECAD5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災害は子どものこころにも大きな影響を与える。災害の正体がわからず、また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分で対処が難しいため、余計に不安にな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災害の怖い体験や喪失体験（親しい人との離別、家の損壊、環境の変化、オ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チャの紛失）や、生活環境の変化（避難、食事）などは子どもに、強い苦痛をも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らす。このような体験が子どもに急性の反応をもたらすのは、当然のことともい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子どもはこころと身体が未分化であるため、心理的なストレスが、体の症状や行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上の問題として出てくること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甘えたり、わがまま、おねしょをするなどの赤ちゃんがえりは、子どもが基本的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頼を確認し、安心感を得て、自分を守るための反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136E-148D-4B86-8689-C2966DC103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子どもたちは、親にしっかりと受け入れてもらっていると感じることで、こころの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すらぎを取り戻すことができる。赤ちゃんがえりなど、子どもが今までと違った行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をしても、多くは正常な反応であることを親が理解することが大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子どもたちが集まれる場所をつくり、のびのびと遊ぶことは、こころの健康に役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つ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DE5A-4E1D-45F8-B168-E4CD5D468A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親も被災者であることを忘れないよう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子どもが周りに迷惑をかけることで気をつかい、落ち着くことができないこともあ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親の悩みに声を傾けることは、気持を支え、親が子どものこころを癒す助けにな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10B9-F927-4EF2-99C1-33D150D91A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赤ちゃんは、お乳を吸うと安心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粉ミルクを作るときは、給水車の水やペットボトルの水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井戸水は使用しない。ほ乳瓶を消毒できないときは、よく洗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子どもは抱っこで安心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ぎゅっと抱きしめて、心音を聞かせてあげるように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0963-BD83-4322-A0B7-FED8AC3023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地震や豪雨などの自然現象は、人間の力では、食い止めることができない。大規模な災害が発生した時には、防災機関（公助）の対応だけでは、限界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助　～自分の身は自分で守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共助　～地域の身近な人同士で助け合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公助　～行政、防災機関による救助・援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それぞれの立場に応じた対策を立てておくことで、被害を小さくすることができ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3B53-49CE-44D9-96B9-F437EC86AD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自助として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非常持ち出しの準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避難所は、どこだろう。安全な避難経路は。家にいるとき、職場で、学校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家族一緒のときに災害にあうとはかぎらない。連絡方法は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家は、安全か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災害がおこってからでは間に合わな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「もしも・・・」の場合を想像してみよ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D807-F8A6-4BF1-BC18-E4F2B3F6F4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女性が持てる重さは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㎏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めやす。準備ができたら、一度背負ってみ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子どものお気に入りの物（おしゃぶり、おもちゃなど）や、自分のこころが安らぐ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を入れておくとよ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1358-F353-4091-B542-335440B4C5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育児に必要な場を提供できるよう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（授乳室、おむつを替える場所、子どもを安全に寝かせておく場所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支援者もストレスをうけます。自分の感情を仲間に話してみる。話すことで気持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が楽になる。睡眠、休息を十分にとって活動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EEB3-2F3D-49A4-97E9-B86FB32158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７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月　阪神淡路大震災では、がれきの下から救助された人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割が、家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や近所の住民によって救出されたとの報告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東日本大震災においても、地域の防災組織が、安否確認や避難所運営など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役割を果たしていた。普段から近所や地域とのつながりや、結びつきが非常に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重要だと、再認識され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FangSong"/>
                <a:ea typeface="FangSong"/>
              </a:rPr>
              <a:t>よみうりファミリー</a:t>
            </a:r>
            <a:r>
              <a:rPr b="0" lang="en-US" sz="1200" spc="-1" strike="noStrike">
                <a:solidFill>
                  <a:srgbClr val="000000"/>
                </a:solidFill>
                <a:latin typeface="FangSong"/>
                <a:ea typeface="FangSong"/>
              </a:rPr>
              <a:t>2014</a:t>
            </a:r>
            <a:r>
              <a:rPr b="0" lang="ja-JP" sz="1200" spc="-1" strike="noStrike">
                <a:solidFill>
                  <a:srgbClr val="000000"/>
                </a:solidFill>
                <a:latin typeface="FangSong"/>
                <a:ea typeface="FangSong"/>
              </a:rPr>
              <a:t>． </a:t>
            </a:r>
            <a:r>
              <a:rPr b="0" lang="en-US" sz="1200" spc="-1" strike="noStrike">
                <a:solidFill>
                  <a:srgbClr val="000000"/>
                </a:solidFill>
                <a:latin typeface="FangSong"/>
                <a:ea typeface="FangSong"/>
              </a:rPr>
              <a:t>9No.423 </a:t>
            </a:r>
            <a:r>
              <a:rPr b="0" lang="ja-JP" sz="1200" spc="-1" strike="noStrike">
                <a:solidFill>
                  <a:srgbClr val="000000"/>
                </a:solidFill>
                <a:latin typeface="FangSong"/>
                <a:ea typeface="FangSong"/>
              </a:rPr>
              <a:t>特集“生活防災のススメ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FangSong"/>
                <a:ea typeface="FangSong"/>
              </a:rPr>
              <a:t>博多あん・あん（安心・安全）リーダー会」 平山事務局長の言葉よ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FangSong"/>
                <a:ea typeface="FangSong"/>
              </a:rPr>
              <a:t>　「日常の暮らし方や人とのかかわり方が防災につながる。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FangSong"/>
                <a:ea typeface="FangSong"/>
              </a:rPr>
              <a:t>　「ご近所さんとの挨拶は、究極の“防災活動”です。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FangSong"/>
                <a:ea typeface="FangSong"/>
              </a:rPr>
              <a:t>　　（互いを認識し、助け合うという共助の基盤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FangSong"/>
                <a:ea typeface="FangSong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5D5F-73B4-48A9-B0E6-A5787A71C9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災害は、地震や台風、風水害、火山噴火などの自然災害や、交通事故や、航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機事故、大火災などの人為災害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日本では、地理的・地勢的条件から、地震、火山噴火、風水害が起こりやすい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然災害としてあげら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自分の身近に起こりそうな災害は、何か、市町村が発行している防災マップ等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調べたり、過去に地域で起こった災害を聞いてみよ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参考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火山噴火・・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3.6.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雲仙普賢岳噴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地震・・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7.1.1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阪神淡路大震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風水害・・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5.8.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鹿児島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水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A42E-F4FE-4310-86BC-E94BB4BBD0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平成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、マグニチュード９．０の東日本大震災が発生し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地震と大津波により多くの命、家や財産が突然、奪われ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災害はまったなしでやってく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私たちは、日頃から身近で起こる可能性のある災害について知り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自分ができることは何かを考えながら、防災に対する意識を高めてい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必要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77EA-42E9-4DD4-AED1-938B09372D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避難所では多くの方が生活を共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災害で受けたショック、プライバシーが保てない、行動が制限されるなど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慣れない生活により乳幼児も心身の不調を起こすこと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また、不衛生な環境になりやすいため、感染症が発生しやすく、トイレや汚物・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ミの処理も滞ること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参考写真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1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新潟中越地震での小千谷市の体育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1DCB-E270-401B-9B7B-7AF8290E3E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スライド番号プレースホルダー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BC8CE7-04ED-4BBD-BCAD-76F77F53AD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間仕切りを立てた避難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93CE-E978-41B2-8445-30ACC187F9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私たちが暮らしている地域には、さまざまな方が暮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高齢者、障害者、妊産婦、乳幼児、病気の人、外国人など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災害時に、特に支援が必要。＝災害時要援護者と呼ば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＊ 災害の危険を察知することが難し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＊ 危険が迫っても、助けを求めるのが難し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＊ 避難情報などを受け取るのが難し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＊ とっさに身を守り、安全な場所に避難するなどの行動を起こすことが難し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また、乳幼児といっしょにいる保護者への支援も必要にな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B4AB-1711-4EFA-80AE-299ABD3F08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東日本大震災を経験した声　～子どもに起こった変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3D2D-74AD-4DF7-95BA-5702EC8F27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東日本大震災を経験した声　～子育てをしていたお母さ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子どもや子育てをする保護者への支援が、十分に行えていなかった部分があ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た。子どもの世話、支援は、保護者にまかされてい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子どもは、災害においてもこれまで学習したように、健全な成長・発達を考慮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支援が必要にな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災害時に直面する子どもの心身の変化をとらえ、こころと体の両面への支援が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要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子どもを連れて、不便な避難所で子育てをしている保護者への支援も忘れ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よう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ED84-57B6-45F3-882C-005BCB0D48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D29-A88D-40E1-8962-5499D2ED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B78-8105-4CF4-AF69-4F673007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2EE-3E01-448B-9065-4BCA9ED0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3D8-0031-48E5-9563-A765C0B5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86C5-DD1C-425C-A566-1FE7E783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44CC-CE81-4991-B160-EE768DC0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F9E6-78A8-40E6-811A-D4DCAC82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E612-0FCE-4642-82CA-7C6D0C3A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8CAF-CAC6-4C40-A9F5-D2FAEE15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D838-0250-4BF4-95CF-A2D4A43B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29C7-30A5-49AB-A655-893FDBB0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E259-874D-4CAB-A71B-C7F8DC7D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3707-7728-4AA8-A6CD-8586B7F0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C5A6-455B-46AD-882A-F3ABCA14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BB8B-0130-4C51-9660-2652601D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FCDA-3EC8-4F64-BF79-71F6F4B1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A330-FF05-460B-8FD1-694944EE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39F-9F6B-4417-A57F-1D2B170C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675-8D3F-4885-900B-0F051144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D29-F65A-4C64-927A-DB670A20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4594-9D3B-4541-9F83-EFCF2725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5AA-9D0A-4E5C-9B43-3A30652E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FAB-FB9F-4369-93B6-6CA48068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1E75-FE10-4C83-A3DD-29FA83DE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4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2844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横型ロゴ"/>
          <p:cNvPicPr/>
          <p:nvPr/>
        </p:nvPicPr>
        <p:blipFill>
          <a:blip r:embed="rId2"/>
          <a:srcRect l="14286" t="33671" r="14241" b="35979"/>
          <a:stretch/>
        </p:blipFill>
        <p:spPr>
          <a:xfrm>
            <a:off x="7904160" y="54000"/>
            <a:ext cx="1152360" cy="34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3E7D-F735-4C6F-AFDB-AF48349184EF}" type="datetime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6/0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7D2D-38F2-4667-8DF7-AA2F757C061B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4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2844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横型ロゴ"/>
          <p:cNvPicPr/>
          <p:nvPr/>
        </p:nvPicPr>
        <p:blipFill>
          <a:blip r:embed="rId2"/>
          <a:srcRect l="14286" t="33671" r="14241" b="35979"/>
          <a:stretch/>
        </p:blipFill>
        <p:spPr>
          <a:xfrm>
            <a:off x="7904160" y="54000"/>
            <a:ext cx="1152360" cy="34596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4"/>
          <p:cNvGrpSpPr/>
          <p:nvPr/>
        </p:nvGrpSpPr>
        <p:grpSpPr>
          <a:xfrm>
            <a:off x="0" y="189000"/>
            <a:ext cx="9144000" cy="6480000"/>
            <a:chOff x="0" y="189000"/>
            <a:chExt cx="9144000" cy="6480000"/>
          </a:xfrm>
        </p:grpSpPr>
        <p:grpSp>
          <p:nvGrpSpPr>
            <p:cNvPr id="46" name="Group 10"/>
            <p:cNvGrpSpPr/>
            <p:nvPr/>
          </p:nvGrpSpPr>
          <p:grpSpPr>
            <a:xfrm>
              <a:off x="0" y="189000"/>
              <a:ext cx="9144000" cy="6480000"/>
              <a:chOff x="0" y="189000"/>
              <a:chExt cx="9144000" cy="6480000"/>
            </a:xfrm>
          </p:grpSpPr>
          <p:sp>
            <p:nvSpPr>
              <p:cNvPr id="47" name="Line 4"/>
              <p:cNvSpPr/>
              <p:nvPr/>
            </p:nvSpPr>
            <p:spPr>
              <a:xfrm>
                <a:off x="0" y="6669000"/>
                <a:ext cx="9144000" cy="0"/>
              </a:xfrm>
              <a:prstGeom prst="line">
                <a:avLst/>
              </a:prstGeom>
              <a:ln w="76320">
                <a:solidFill>
                  <a:srgbClr val="e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5"/>
              <p:cNvSpPr/>
              <p:nvPr/>
            </p:nvSpPr>
            <p:spPr>
              <a:xfrm>
                <a:off x="0" y="189000"/>
                <a:ext cx="9144000" cy="0"/>
              </a:xfrm>
              <a:prstGeom prst="line">
                <a:avLst/>
              </a:prstGeom>
              <a:ln w="28440">
                <a:solidFill>
                  <a:srgbClr val="e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Picture 13" descr="0101 カラー"/>
            <p:cNvPicPr/>
            <p:nvPr/>
          </p:nvPicPr>
          <p:blipFill>
            <a:blip r:embed="rId3"/>
            <a:stretch/>
          </p:blipFill>
          <p:spPr>
            <a:xfrm>
              <a:off x="3765600" y="4587840"/>
              <a:ext cx="161280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EAD5-5F69-49DE-A4D3-80B533169749}" type="datetime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6/0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00992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6132-FE9A-4CD5-AF63-39E7DE14B60F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8"/>
          <p:cNvGrpSpPr/>
          <p:nvPr/>
        </p:nvGrpSpPr>
        <p:grpSpPr>
          <a:xfrm>
            <a:off x="0" y="378000"/>
            <a:ext cx="9144000" cy="6480000"/>
            <a:chOff x="0" y="378000"/>
            <a:chExt cx="9144000" cy="6480000"/>
          </a:xfrm>
        </p:grpSpPr>
        <p:grpSp>
          <p:nvGrpSpPr>
            <p:cNvPr id="99" name="Group 10"/>
            <p:cNvGrpSpPr/>
            <p:nvPr/>
          </p:nvGrpSpPr>
          <p:grpSpPr>
            <a:xfrm>
              <a:off x="0" y="378000"/>
              <a:ext cx="9144000" cy="6480000"/>
              <a:chOff x="0" y="378000"/>
              <a:chExt cx="9144000" cy="6480000"/>
            </a:xfrm>
          </p:grpSpPr>
          <p:sp>
            <p:nvSpPr>
              <p:cNvPr id="100" name="Line 4"/>
              <p:cNvSpPr/>
              <p:nvPr/>
            </p:nvSpPr>
            <p:spPr>
              <a:xfrm>
                <a:off x="0" y="6858000"/>
                <a:ext cx="9144000" cy="0"/>
              </a:xfrm>
              <a:prstGeom prst="line">
                <a:avLst/>
              </a:prstGeom>
              <a:ln w="76320">
                <a:solidFill>
                  <a:srgbClr val="e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5"/>
              <p:cNvSpPr/>
              <p:nvPr/>
            </p:nvSpPr>
            <p:spPr>
              <a:xfrm>
                <a:off x="0" y="378000"/>
                <a:ext cx="9144000" cy="0"/>
              </a:xfrm>
              <a:prstGeom prst="line">
                <a:avLst/>
              </a:prstGeom>
              <a:ln w="28440">
                <a:solidFill>
                  <a:srgbClr val="e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" name="Picture 22" descr="0101 カラー"/>
            <p:cNvPicPr/>
            <p:nvPr/>
          </p:nvPicPr>
          <p:blipFill>
            <a:blip r:embed="rId1"/>
            <a:stretch/>
          </p:blipFill>
          <p:spPr>
            <a:xfrm>
              <a:off x="3765600" y="4776840"/>
              <a:ext cx="161280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テキスト ボックス 12"/>
          <p:cNvSpPr/>
          <p:nvPr/>
        </p:nvSpPr>
        <p:spPr>
          <a:xfrm>
            <a:off x="0" y="212256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HGPｺﾞｼｯｸM"/>
                <a:ea typeface="HGPｺﾞｼｯｸM"/>
              </a:rPr>
              <a:t>　</a:t>
            </a:r>
            <a:r>
              <a:rPr b="1" lang="ja-JP" sz="4000" spc="-1" strike="noStrike">
                <a:solidFill>
                  <a:srgbClr val="0000ff"/>
                </a:solidFill>
                <a:latin typeface="HGPｺﾞｼｯｸM"/>
                <a:ea typeface="HGPｺﾞｼｯｸM"/>
              </a:rPr>
              <a:t>災害時の乳幼児支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13"/>
          <p:cNvSpPr/>
          <p:nvPr/>
        </p:nvSpPr>
        <p:spPr>
          <a:xfrm>
            <a:off x="5184720" y="5460840"/>
            <a:ext cx="38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　愛知県支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5378400" y="1569960"/>
            <a:ext cx="3349800" cy="2617920"/>
          </a:xfrm>
          <a:prstGeom prst="rect">
            <a:avLst/>
          </a:prstGeom>
          <a:ln w="0">
            <a:noFill/>
          </a:ln>
        </p:spPr>
      </p:pic>
      <p:sp>
        <p:nvSpPr>
          <p:cNvPr id="106" name="テキスト ボックス 9"/>
          <p:cNvSpPr/>
          <p:nvPr/>
        </p:nvSpPr>
        <p:spPr>
          <a:xfrm>
            <a:off x="1270080" y="15080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赤十字幼児安全法講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テキスト ボックス 4"/>
          <p:cNvSpPr/>
          <p:nvPr/>
        </p:nvSpPr>
        <p:spPr>
          <a:xfrm>
            <a:off x="1648440" y="1630440"/>
            <a:ext cx="37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　気をつけたい</a:t>
            </a:r>
            <a:r>
              <a:rPr b="1" lang="ja-JP" sz="3200" spc="-1" strike="noStrike">
                <a:solidFill>
                  <a:srgbClr val="ffc000"/>
                </a:solidFill>
                <a:latin typeface="ＭＳ Ｐゴシック"/>
                <a:ea typeface="ＭＳ Ｐゴシック"/>
              </a:rPr>
              <a:t>からだ</a:t>
            </a:r>
            <a:r>
              <a:rPr b="0" lang="ja-JP" sz="32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のサイ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テキスト ボックス 4"/>
          <p:cNvSpPr/>
          <p:nvPr/>
        </p:nvSpPr>
        <p:spPr>
          <a:xfrm>
            <a:off x="3276720" y="687240"/>
            <a:ext cx="2266920" cy="642600"/>
          </a:xfrm>
          <a:prstGeom prst="rect">
            <a:avLst/>
          </a:prstGeom>
          <a:noFill/>
          <a:ln w="936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乳児・幼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テキスト ボックス 6"/>
          <p:cNvSpPr/>
          <p:nvPr/>
        </p:nvSpPr>
        <p:spPr>
          <a:xfrm>
            <a:off x="3713400" y="2214720"/>
            <a:ext cx="147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発熱、下痢、便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腹痛、吐き気、食欲がない、ほ乳力の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かゆみ、痛みなどの皮膚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テキスト ボックス 4"/>
          <p:cNvSpPr/>
          <p:nvPr/>
        </p:nvSpPr>
        <p:spPr>
          <a:xfrm>
            <a:off x="1065960" y="3635280"/>
            <a:ext cx="13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※</a:t>
            </a:r>
            <a:r>
              <a:rPr b="0" lang="ja-JP" sz="32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対処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3817800" y="4221000"/>
            <a:ext cx="184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体温調整のため、室温や衣服の調整を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脱水症状に注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清潔に配慮する。おむつかふれに注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規則正しい生活をおく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ほこりなどによるアレルギー、ぜんそくに注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風邪などの感染症に注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テキスト ボックス 4"/>
          <p:cNvSpPr/>
          <p:nvPr/>
        </p:nvSpPr>
        <p:spPr>
          <a:xfrm>
            <a:off x="2445480" y="4356000"/>
            <a:ext cx="38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※ </a:t>
            </a:r>
            <a:r>
              <a:rPr b="0" lang="ja-JP" sz="32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気をつけたい</a:t>
            </a:r>
            <a:r>
              <a:rPr b="1" lang="ja-JP" sz="3200" spc="-1" strike="noStrike">
                <a:solidFill>
                  <a:srgbClr val="ffc000"/>
                </a:solidFill>
                <a:latin typeface="ＭＳ Ｐゴシック"/>
                <a:ea typeface="ＭＳ Ｐゴシック"/>
              </a:rPr>
              <a:t>こころ</a:t>
            </a:r>
            <a:r>
              <a:rPr b="0" lang="ja-JP" sz="32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のサイ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テキスト ボックス 4"/>
          <p:cNvSpPr/>
          <p:nvPr/>
        </p:nvSpPr>
        <p:spPr>
          <a:xfrm>
            <a:off x="3024360" y="336600"/>
            <a:ext cx="2808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乳児・幼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テキスト ボックス 6"/>
          <p:cNvSpPr/>
          <p:nvPr/>
        </p:nvSpPr>
        <p:spPr>
          <a:xfrm>
            <a:off x="3937320" y="5049720"/>
            <a:ext cx="186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夜泣き、寝つきが悪い、悪夢をみ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年齢不相応に甘える。夜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1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人になるのが怖い。親から離れ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多弁、無気力・ 無表情、目をぱちぱち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"/>
          <p:cNvPicPr/>
          <p:nvPr/>
        </p:nvPicPr>
        <p:blipFill>
          <a:blip r:embed="rId1"/>
          <a:stretch/>
        </p:blipFill>
        <p:spPr>
          <a:xfrm>
            <a:off x="3787920" y="1817640"/>
            <a:ext cx="1863720" cy="2005200"/>
          </a:xfrm>
          <a:prstGeom prst="rect">
            <a:avLst/>
          </a:prstGeom>
          <a:ln w="0">
            <a:noFill/>
          </a:ln>
        </p:spPr>
      </p:pic>
      <p:sp>
        <p:nvSpPr>
          <p:cNvPr id="159" name="テキスト ボックス 9"/>
          <p:cNvSpPr/>
          <p:nvPr/>
        </p:nvSpPr>
        <p:spPr>
          <a:xfrm>
            <a:off x="3273840" y="1233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子どもが受けるストレ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右矢印吹き出し 10"/>
          <p:cNvSpPr/>
          <p:nvPr/>
        </p:nvSpPr>
        <p:spPr>
          <a:xfrm>
            <a:off x="368280" y="2168640"/>
            <a:ext cx="3419640" cy="1224000"/>
          </a:xfrm>
          <a:prstGeom prst="rightArrowCallout">
            <a:avLst>
              <a:gd name="adj1" fmla="val 25002"/>
              <a:gd name="adj2" fmla="val 25000"/>
              <a:gd name="adj3" fmla="val 25002"/>
              <a:gd name="adj4" fmla="val 64977"/>
            </a:avLst>
          </a:prstGeom>
          <a:solidFill>
            <a:srgbClr val="ec0000">
              <a:alpha val="22000"/>
            </a:srgbClr>
          </a:solidFill>
          <a:ln w="12600">
            <a:solidFill>
              <a:srgbClr val="e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災害そのもの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衝撃に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ストレ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右矢印吹き出し 15"/>
          <p:cNvSpPr/>
          <p:nvPr/>
        </p:nvSpPr>
        <p:spPr>
          <a:xfrm rot="10800000">
            <a:off x="5651640" y="2168640"/>
            <a:ext cx="3254400" cy="1224000"/>
          </a:xfrm>
          <a:prstGeom prst="right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ec0000">
              <a:alpha val="22000"/>
            </a:srgbClr>
          </a:solidFill>
          <a:ln w="12600">
            <a:solidFill>
              <a:srgbClr val="e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テキスト ボックス 16"/>
          <p:cNvSpPr/>
          <p:nvPr/>
        </p:nvSpPr>
        <p:spPr>
          <a:xfrm>
            <a:off x="7010280" y="236520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生活変化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よるストレ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テキスト ボックス 4"/>
          <p:cNvSpPr/>
          <p:nvPr/>
        </p:nvSpPr>
        <p:spPr>
          <a:xfrm>
            <a:off x="824400" y="1106640"/>
            <a:ext cx="14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※ </a:t>
            </a:r>
            <a:r>
              <a:rPr b="0" lang="ja-JP" sz="32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対処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796000" y="988920"/>
            <a:ext cx="2595600" cy="2791080"/>
          </a:xfrm>
          <a:prstGeom prst="rect">
            <a:avLst/>
          </a:prstGeom>
          <a:ln w="0">
            <a:noFill/>
          </a:ln>
        </p:spPr>
      </p:pic>
      <p:sp>
        <p:nvSpPr>
          <p:cNvPr id="165" name="テキスト ボックス 8"/>
          <p:cNvSpPr/>
          <p:nvPr/>
        </p:nvSpPr>
        <p:spPr>
          <a:xfrm>
            <a:off x="3780000" y="2205000"/>
            <a:ext cx="178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「大丈夫よ」と大人が言葉や態度で示し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子どもに安心感を伝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いつも通りの生活を送ること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普段と変わらない接し方を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赤ちゃんがえりや、年齢に合わない行動を叱ら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上の子どもほど無理をしていることがあるので、スキンシッ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 を多くし、一緒の時間を作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遊びの場所を作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話をよく聞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食事、排泄、機嫌など、様子をよく観察してお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テキスト ボックス 4"/>
          <p:cNvSpPr/>
          <p:nvPr/>
        </p:nvSpPr>
        <p:spPr>
          <a:xfrm>
            <a:off x="1384200" y="1131840"/>
            <a:ext cx="37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※</a:t>
            </a:r>
            <a:r>
              <a:rPr b="0" lang="ja-JP" sz="32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気をつけたい</a:t>
            </a:r>
            <a:r>
              <a:rPr b="0" lang="ja-JP" sz="32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こころ</a:t>
            </a:r>
            <a:r>
              <a:rPr b="0" lang="ja-JP" sz="32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のサイ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テキスト ボックス 4"/>
          <p:cNvSpPr/>
          <p:nvPr/>
        </p:nvSpPr>
        <p:spPr>
          <a:xfrm>
            <a:off x="3492360" y="235080"/>
            <a:ext cx="2051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保護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テキスト ボックス 6"/>
          <p:cNvSpPr/>
          <p:nvPr/>
        </p:nvSpPr>
        <p:spPr>
          <a:xfrm>
            <a:off x="2756880" y="1789200"/>
            <a:ext cx="147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不眠、食欲不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興奮、必要以上に子どもを怒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落ち着かない、不安、じっとでき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話がまとまら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ぼんやりしている。泣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テキスト ボックス 4"/>
          <p:cNvSpPr/>
          <p:nvPr/>
        </p:nvSpPr>
        <p:spPr>
          <a:xfrm>
            <a:off x="815040" y="3727440"/>
            <a:ext cx="13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※</a:t>
            </a:r>
            <a:r>
              <a:rPr b="0" lang="ja-JP" sz="32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対処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テキスト ボックス 8"/>
          <p:cNvSpPr/>
          <p:nvPr/>
        </p:nvSpPr>
        <p:spPr>
          <a:xfrm>
            <a:off x="4449240" y="4292640"/>
            <a:ext cx="117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親身に話を聞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感情を受け止め、むやみに励まさ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頑張りを認め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乳幼児の家族の部屋を用意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・ 子どもの変化や保護者の不安、無気力などのこころの反応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 「正常な反応で心配ない」ことを伝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6551640" y="2552760"/>
            <a:ext cx="2085840" cy="2349360"/>
          </a:xfrm>
          <a:prstGeom prst="rect">
            <a:avLst/>
          </a:prstGeom>
          <a:ln w="0">
            <a:noFill/>
          </a:ln>
        </p:spPr>
      </p:pic>
      <p:sp>
        <p:nvSpPr>
          <p:cNvPr id="172" name="テキスト ボックス 10"/>
          <p:cNvSpPr/>
          <p:nvPr/>
        </p:nvSpPr>
        <p:spPr>
          <a:xfrm>
            <a:off x="6797880" y="20923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000"/>
                </a:solidFill>
                <a:latin typeface="HGPｺﾞｼｯｸM"/>
                <a:ea typeface="HGPｺﾞｼｯｸM"/>
              </a:rPr>
              <a:t>保護者も被災者で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920" y="1052280"/>
            <a:ext cx="7453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ＭＳ Ｐゴシック"/>
              </a:rPr>
              <a:t>6.</a:t>
            </a:r>
            <a:r>
              <a:rPr b="0" lang="ja-JP" sz="3600" spc="-1" strike="noStrike">
                <a:solidFill>
                  <a:srgbClr val="0000ff"/>
                </a:solidFill>
                <a:latin typeface="ＭＳ Ｐゴシック"/>
              </a:rPr>
              <a:t>避難所で心地よく生活するため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テキスト ボックス 4"/>
          <p:cNvSpPr/>
          <p:nvPr/>
        </p:nvSpPr>
        <p:spPr>
          <a:xfrm>
            <a:off x="3128400" y="2168640"/>
            <a:ext cx="1034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１）食事・栄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２）排泄・おむ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３）清潔・衣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４）抱っこ、タッチケ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５）遊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テキスト ボックス 37"/>
          <p:cNvSpPr/>
          <p:nvPr/>
        </p:nvSpPr>
        <p:spPr>
          <a:xfrm>
            <a:off x="4122720" y="6126120"/>
            <a:ext cx="1357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公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グループ化 15"/>
          <p:cNvGrpSpPr/>
          <p:nvPr/>
        </p:nvGrpSpPr>
        <p:grpSpPr>
          <a:xfrm>
            <a:off x="900000" y="2038320"/>
            <a:ext cx="7758360" cy="4038480"/>
            <a:chOff x="900000" y="2038320"/>
            <a:chExt cx="7758360" cy="4038480"/>
          </a:xfrm>
        </p:grpSpPr>
        <p:pic>
          <p:nvPicPr>
            <p:cNvPr id="177" name="図 5" descr="E:\イラストpngデータ\10.png"/>
            <p:cNvPicPr/>
            <p:nvPr/>
          </p:nvPicPr>
          <p:blipFill>
            <a:blip r:embed="rId1"/>
            <a:stretch/>
          </p:blipFill>
          <p:spPr>
            <a:xfrm>
              <a:off x="900000" y="2161800"/>
              <a:ext cx="2292480" cy="14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図 6" descr="E:\イラストpngデータ\11.png"/>
            <p:cNvPicPr/>
            <p:nvPr/>
          </p:nvPicPr>
          <p:blipFill>
            <a:blip r:embed="rId2"/>
            <a:stretch/>
          </p:blipFill>
          <p:spPr>
            <a:xfrm>
              <a:off x="5715000" y="2038320"/>
              <a:ext cx="2943360" cy="16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図 9" descr="E:\イラストpngデータ\13.png"/>
            <p:cNvPicPr/>
            <p:nvPr/>
          </p:nvPicPr>
          <p:blipFill>
            <a:blip r:embed="rId3"/>
            <a:stretch/>
          </p:blipFill>
          <p:spPr>
            <a:xfrm>
              <a:off x="3338280" y="4533840"/>
              <a:ext cx="272412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左右矢印 5"/>
            <p:cNvSpPr/>
            <p:nvPr/>
          </p:nvSpPr>
          <p:spPr>
            <a:xfrm>
              <a:off x="3821040" y="2616120"/>
              <a:ext cx="1659240" cy="269640"/>
            </a:xfrm>
            <a:prstGeom prst="leftRightArrow">
              <a:avLst>
                <a:gd name="adj1" fmla="val 50000"/>
                <a:gd name="adj2" fmla="val 50054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左右矢印 7"/>
            <p:cNvSpPr/>
            <p:nvPr/>
          </p:nvSpPr>
          <p:spPr>
            <a:xfrm rot="2725200">
              <a:off x="3022200" y="3812400"/>
              <a:ext cx="1100880" cy="387360"/>
            </a:xfrm>
            <a:prstGeom prst="leftRightArrow">
              <a:avLst>
                <a:gd name="adj1" fmla="val 50000"/>
                <a:gd name="adj2" fmla="val 50038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左右矢印 8"/>
            <p:cNvSpPr/>
            <p:nvPr/>
          </p:nvSpPr>
          <p:spPr>
            <a:xfrm rot="8211000">
              <a:off x="5423760" y="3907440"/>
              <a:ext cx="1010160" cy="340200"/>
            </a:xfrm>
            <a:prstGeom prst="leftRightArrow">
              <a:avLst>
                <a:gd name="adj1" fmla="val 50000"/>
                <a:gd name="adj2" fmla="val 50066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テキスト ボックス 15"/>
            <p:cNvSpPr/>
            <p:nvPr/>
          </p:nvSpPr>
          <p:spPr>
            <a:xfrm>
              <a:off x="1079280" y="3755880"/>
              <a:ext cx="1326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0000ff"/>
                  </a:solidFill>
                  <a:latin typeface="ＭＳ Ｐゴシック"/>
                  <a:ea typeface="ＭＳ Ｐゴシック"/>
                </a:rPr>
                <a:t>自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テキスト ボックス 3167"/>
            <p:cNvSpPr/>
            <p:nvPr/>
          </p:nvSpPr>
          <p:spPr>
            <a:xfrm>
              <a:off x="7201080" y="3662280"/>
              <a:ext cx="12603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0000ff"/>
                  </a:solidFill>
                  <a:latin typeface="ＭＳ Ｐゴシック"/>
                  <a:ea typeface="ＭＳ Ｐゴシック"/>
                </a:rPr>
                <a:t>共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テキスト ボックス 38"/>
            <p:cNvSpPr/>
            <p:nvPr/>
          </p:nvSpPr>
          <p:spPr>
            <a:xfrm>
              <a:off x="3821040" y="3186000"/>
              <a:ext cx="1768320" cy="59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000" spc="-1" strike="noStrike">
                  <a:solidFill>
                    <a:srgbClr val="c0504d"/>
                  </a:solidFill>
                  <a:latin typeface="メイリオ"/>
                  <a:ea typeface="HGPｺﾞｼｯｸE"/>
                </a:rPr>
                <a:t>連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テキスト ボックス 17"/>
          <p:cNvSpPr/>
          <p:nvPr/>
        </p:nvSpPr>
        <p:spPr>
          <a:xfrm>
            <a:off x="1979640" y="1278000"/>
            <a:ext cx="563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c000"/>
                </a:solidFill>
                <a:latin typeface="ＭＳ Ｐ明朝"/>
                <a:ea typeface="ＭＳ Ｐ明朝"/>
              </a:rPr>
              <a:t>被害を小さくするための大きな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円/楕円 13"/>
          <p:cNvSpPr/>
          <p:nvPr/>
        </p:nvSpPr>
        <p:spPr>
          <a:xfrm>
            <a:off x="900000" y="1832040"/>
            <a:ext cx="2724120" cy="1923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テキスト ボックス 14"/>
          <p:cNvSpPr/>
          <p:nvPr/>
        </p:nvSpPr>
        <p:spPr>
          <a:xfrm>
            <a:off x="3569760" y="60156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HGPｺﾞｼｯｸE"/>
              </a:rPr>
              <a:t>　災害への備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テキスト ボックス 13"/>
          <p:cNvSpPr/>
          <p:nvPr/>
        </p:nvSpPr>
        <p:spPr>
          <a:xfrm>
            <a:off x="4189320" y="5157720"/>
            <a:ext cx="1422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・ 災害時起きてからでは、間に合いません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・ 普段できていないことは災害時にはできない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　もしくは時間がかかりま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グループ化 8"/>
          <p:cNvGrpSpPr/>
          <p:nvPr/>
        </p:nvGrpSpPr>
        <p:grpSpPr>
          <a:xfrm>
            <a:off x="1045440" y="571680"/>
            <a:ext cx="7279200" cy="4362120"/>
            <a:chOff x="1045440" y="571680"/>
            <a:chExt cx="7279200" cy="4362120"/>
          </a:xfrm>
        </p:grpSpPr>
        <p:pic>
          <p:nvPicPr>
            <p:cNvPr id="191" name="図 14" descr="E:\イラストpngデータ\17.png"/>
            <p:cNvPicPr/>
            <p:nvPr/>
          </p:nvPicPr>
          <p:blipFill>
            <a:blip r:embed="rId1"/>
            <a:stretch/>
          </p:blipFill>
          <p:spPr>
            <a:xfrm>
              <a:off x="3449160" y="2800800"/>
              <a:ext cx="2163240" cy="213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図 15" descr="E:\イラストpngデータ\15.png"/>
            <p:cNvPicPr/>
            <p:nvPr/>
          </p:nvPicPr>
          <p:blipFill>
            <a:blip r:embed="rId2"/>
            <a:stretch/>
          </p:blipFill>
          <p:spPr>
            <a:xfrm>
              <a:off x="4530960" y="571680"/>
              <a:ext cx="2880720" cy="195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図 16" descr="E:\イラストpngデータ\18.png"/>
            <p:cNvPicPr/>
            <p:nvPr/>
          </p:nvPicPr>
          <p:blipFill>
            <a:blip r:embed="rId3"/>
            <a:stretch/>
          </p:blipFill>
          <p:spPr>
            <a:xfrm>
              <a:off x="1155240" y="1079640"/>
              <a:ext cx="215244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テキスト ボックス 18"/>
            <p:cNvSpPr/>
            <p:nvPr/>
          </p:nvSpPr>
          <p:spPr>
            <a:xfrm>
              <a:off x="1045440" y="31496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非常持ち出し品の準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テキスト ボックス 19"/>
            <p:cNvSpPr/>
            <p:nvPr/>
          </p:nvSpPr>
          <p:spPr>
            <a:xfrm>
              <a:off x="5822280" y="408456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住まいの安全チェッ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テキスト ボックス 20"/>
            <p:cNvSpPr/>
            <p:nvPr/>
          </p:nvSpPr>
          <p:spPr>
            <a:xfrm>
              <a:off x="6498000" y="236556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避難場所や連絡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35280" y="728640"/>
            <a:ext cx="32875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非常持ち出し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常持ち出し品は、必要最小限にし、できるだけコンパクトにまとめておきましょ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保管場所は、家族みんながわかる場所にしておきましょ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乳幼児特有の必要品もあり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 日頃から準備しておきましょ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http://ts1.mm.bing.net/th?&amp;id=HN.608009860065529706&amp;w=300&amp;h=300&amp;c=0&amp;pid=1.9&amp;rs=0&amp;p=0"/>
          <p:cNvPicPr/>
          <p:nvPr/>
        </p:nvPicPr>
        <p:blipFill>
          <a:blip r:embed="rId1"/>
          <a:stretch/>
        </p:blipFill>
        <p:spPr>
          <a:xfrm>
            <a:off x="2340000" y="4630680"/>
            <a:ext cx="1557360" cy="1989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http://www.sozaidaisuki.com/web/baby/baby-3b-4.gif"/>
          <p:cNvPicPr/>
          <p:nvPr/>
        </p:nvPicPr>
        <p:blipFill>
          <a:blip r:embed="rId2"/>
          <a:stretch/>
        </p:blipFill>
        <p:spPr>
          <a:xfrm>
            <a:off x="4254480" y="4859280"/>
            <a:ext cx="1768320" cy="1751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http://ts1.mm.bing.net/th?&amp;id=HN.608028981262878613&amp;w=300&amp;h=300&amp;c=0&amp;pid=1.9&amp;rs=0&amp;p=0"/>
          <p:cNvPicPr/>
          <p:nvPr/>
        </p:nvPicPr>
        <p:blipFill>
          <a:blip r:embed="rId3"/>
          <a:stretch/>
        </p:blipFill>
        <p:spPr>
          <a:xfrm>
            <a:off x="743040" y="5373720"/>
            <a:ext cx="1245960" cy="1246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http://ts1.mm.bing.net/th?&amp;id=HN.608001347443164764&amp;w=300&amp;h=300&amp;c=0&amp;pid=1.9&amp;rs=0&amp;p=0"/>
          <p:cNvPicPr/>
          <p:nvPr/>
        </p:nvPicPr>
        <p:blipFill>
          <a:blip r:embed="rId4"/>
          <a:stretch/>
        </p:blipFill>
        <p:spPr>
          <a:xfrm>
            <a:off x="6516720" y="3624120"/>
            <a:ext cx="197964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920" y="438120"/>
            <a:ext cx="691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乳幼児や保護者を支援する方々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412640"/>
            <a:ext cx="8229600" cy="51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・ 気になる子どもや保護者を見掛けたら、声をかけてみましょ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・ 親身になって話をよく聞き、気持ちに寄り添いましょう。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2800" spc="-1" strike="noStrike">
                <a:solidFill>
                  <a:srgbClr val="ec0000"/>
                </a:solidFill>
                <a:latin typeface="HG丸ｺﾞｼｯｸM-PRO"/>
                <a:ea typeface="平成明朝"/>
              </a:rPr>
              <a:t>“ 話を聞く”大切な支援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・  子どもには遊び場など楽しみの場の提供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　　ストレス緩和に役立ちま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・　守秘義務を守りましょ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・　気づかないうちに、支援者もストレスをうけることを知っておきましょ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3920" y="547560"/>
            <a:ext cx="6815160" cy="116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Arial"/>
                <a:ea typeface="TB丸ｺﾞｼｯｸR"/>
              </a:rPr>
              <a:t>お互いに助け合って</a:t>
            </a:r>
            <a:br>
              <a:rPr sz="3600"/>
            </a:br>
            <a:r>
              <a:rPr b="0" lang="ja-JP" sz="3600" spc="-1" strike="noStrike">
                <a:solidFill>
                  <a:srgbClr val="0000ff"/>
                </a:solidFill>
                <a:latin typeface="Arial"/>
                <a:ea typeface="TB丸ｺﾞｼｯｸR"/>
              </a:rPr>
              <a:t>できることか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56800" y="1915920"/>
            <a:ext cx="777564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Arial"/>
                <a:ea typeface="TB丸ｺﾞｼｯｸR"/>
              </a:rPr>
              <a:t>避難所は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TB丸ｺﾞｼｯｸR"/>
              </a:rPr>
              <a:t>　　できるだけご近所単位で分けられ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TB丸ｺﾞｼｯｸR"/>
              </a:rPr>
              <a:t>　ふだんからの地域、ご近所のつながり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TB丸ｺﾞｼｯｸR"/>
              </a:rPr>
              <a:t>　　 大切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TB丸ｺﾞｼｯｸR"/>
              </a:rPr>
              <a:t>　　お互いに助け合い、共同作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Arial"/>
                <a:ea typeface="TB丸ｺﾞｼｯｸR"/>
              </a:rPr>
              <a:t>不安は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TB丸ｺﾞｼｯｸR"/>
              </a:rPr>
              <a:t>　　情報を共有するだけでも緩和され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TB丸ｺﾞｼｯｸR"/>
              </a:rPr>
              <a:t>　　コミュケーションが大切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380880" y="1714680"/>
            <a:ext cx="8477280" cy="483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ph_fugen_01"/>
          <p:cNvPicPr/>
          <p:nvPr/>
        </p:nvPicPr>
        <p:blipFill>
          <a:blip r:embed="rId1"/>
          <a:stretch/>
        </p:blipFill>
        <p:spPr>
          <a:xfrm>
            <a:off x="933480" y="685800"/>
            <a:ext cx="3836880" cy="5551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:\Documents and Settings\rc304\デスクトップ\ph_c13_05[1].jpg"/>
          <p:cNvPicPr/>
          <p:nvPr/>
        </p:nvPicPr>
        <p:blipFill>
          <a:blip r:embed="rId2"/>
          <a:stretch/>
        </p:blipFill>
        <p:spPr>
          <a:xfrm>
            <a:off x="468360" y="3392640"/>
            <a:ext cx="4411440" cy="2939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C:\Documents and Settings\rc304\デスクトップ\moment-when-great-hanshin-earthquake-happened[1].jpg"/>
          <p:cNvPicPr/>
          <p:nvPr/>
        </p:nvPicPr>
        <p:blipFill>
          <a:blip r:embed="rId3"/>
          <a:stretch/>
        </p:blipFill>
        <p:spPr>
          <a:xfrm>
            <a:off x="4967280" y="2205000"/>
            <a:ext cx="3930480" cy="2841840"/>
          </a:xfrm>
          <a:prstGeom prst="rect">
            <a:avLst/>
          </a:prstGeom>
          <a:ln w="0">
            <a:noFill/>
          </a:ln>
        </p:spPr>
      </p:pic>
      <p:sp>
        <p:nvSpPr>
          <p:cNvPr id="110" name="テキスト ボックス 4"/>
          <p:cNvSpPr/>
          <p:nvPr/>
        </p:nvSpPr>
        <p:spPr>
          <a:xfrm>
            <a:off x="4770360" y="685800"/>
            <a:ext cx="15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火山噴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5"/>
          <p:cNvSpPr/>
          <p:nvPr/>
        </p:nvSpPr>
        <p:spPr>
          <a:xfrm>
            <a:off x="6551640" y="5046840"/>
            <a:ext cx="8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地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6"/>
          <p:cNvSpPr/>
          <p:nvPr/>
        </p:nvSpPr>
        <p:spPr>
          <a:xfrm>
            <a:off x="1908000" y="623736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風水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1"/>
          <p:cNvSpPr/>
          <p:nvPr/>
        </p:nvSpPr>
        <p:spPr>
          <a:xfrm>
            <a:off x="503280" y="152280"/>
            <a:ext cx="42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ｺﾞｼｯｸE"/>
              </a:rPr>
              <a:t>1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PｺﾞｼｯｸE"/>
              </a:rPr>
              <a:t>災害と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C:\Documents and Settings\rc304\デスクトップ\s_5_VcContents_C-0_VcContentsImage_C002[1].jpg"/>
          <p:cNvPicPr/>
          <p:nvPr/>
        </p:nvPicPr>
        <p:blipFill>
          <a:blip r:embed="rId1"/>
          <a:stretch/>
        </p:blipFill>
        <p:spPr>
          <a:xfrm>
            <a:off x="900000" y="1376280"/>
            <a:ext cx="4189680" cy="2795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Documents and Settings\rc304\デスクトップ\石巻被害.JPG"/>
          <p:cNvPicPr/>
          <p:nvPr/>
        </p:nvPicPr>
        <p:blipFill>
          <a:blip r:embed="rId2"/>
          <a:stretch/>
        </p:blipFill>
        <p:spPr>
          <a:xfrm>
            <a:off x="4332240" y="3537000"/>
            <a:ext cx="4043520" cy="2906640"/>
          </a:xfrm>
          <a:prstGeom prst="rect">
            <a:avLst/>
          </a:prstGeom>
          <a:ln w="0">
            <a:noFill/>
          </a:ln>
        </p:spPr>
      </p:pic>
      <p:sp>
        <p:nvSpPr>
          <p:cNvPr id="116" name="テキスト ボックス 3"/>
          <p:cNvSpPr/>
          <p:nvPr/>
        </p:nvSpPr>
        <p:spPr>
          <a:xfrm>
            <a:off x="3828240" y="7239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東日本大震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6920" y="549000"/>
            <a:ext cx="304812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２．避難所の生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PA270173"/>
          <p:cNvPicPr/>
          <p:nvPr/>
        </p:nvPicPr>
        <p:blipFill>
          <a:blip r:embed="rId1"/>
          <a:stretch/>
        </p:blipFill>
        <p:spPr>
          <a:xfrm>
            <a:off x="900000" y="1641600"/>
            <a:ext cx="7452000" cy="47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:\Users\日本赤十字社岐阜県支部\Desktop\東日本　本社広報から\陸前高田市\避難所となっている陸前高田市立第一中学校の体育館.jpg"/>
          <p:cNvPicPr/>
          <p:nvPr/>
        </p:nvPicPr>
        <p:blipFill>
          <a:blip r:embed="rId1"/>
          <a:stretch/>
        </p:blipFill>
        <p:spPr>
          <a:xfrm>
            <a:off x="0" y="1844640"/>
            <a:ext cx="9325080" cy="610236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121" name="Picture 3" descr="C:\Users\日本赤十字社岐阜県支部\Desktop\東日本　本社広報から\0313宮古第二中学校にて各教室を巡回している（和歌山救護班）.JPG"/>
          <p:cNvPicPr/>
          <p:nvPr/>
        </p:nvPicPr>
        <p:blipFill>
          <a:blip r:embed="rId2"/>
          <a:stretch/>
        </p:blipFill>
        <p:spPr>
          <a:xfrm>
            <a:off x="0" y="-316080"/>
            <a:ext cx="4514760" cy="338796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122" name="Picture 3" descr="C:\Users\日本赤十字社岐阜県支部\Desktop\東日本　本社広報から\陸前高田市\3月29日の陸前高田市立第一中学校の避難所の様子.jpg"/>
          <p:cNvPicPr/>
          <p:nvPr/>
        </p:nvPicPr>
        <p:blipFill>
          <a:blip r:embed="rId3"/>
          <a:stretch/>
        </p:blipFill>
        <p:spPr>
          <a:xfrm>
            <a:off x="4521240" y="-325440"/>
            <a:ext cx="4767120" cy="339408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C:\Documents and Settings\rc304\デスクトップ\PR2011040700463[1].jpg"/>
          <p:cNvPicPr/>
          <p:nvPr/>
        </p:nvPicPr>
        <p:blipFill>
          <a:blip r:embed="rId1"/>
          <a:stretch/>
        </p:blipFill>
        <p:spPr>
          <a:xfrm>
            <a:off x="1547640" y="1557360"/>
            <a:ext cx="5953320" cy="4464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8120" y="699840"/>
            <a:ext cx="304776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避難所の生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8"/>
          <p:cNvSpPr/>
          <p:nvPr/>
        </p:nvSpPr>
        <p:spPr>
          <a:xfrm>
            <a:off x="2185920" y="1146240"/>
            <a:ext cx="34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災害時要援護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2"/>
          <p:cNvSpPr/>
          <p:nvPr/>
        </p:nvSpPr>
        <p:spPr>
          <a:xfrm>
            <a:off x="1079640" y="38160"/>
            <a:ext cx="6341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　乳幼児は災害時要援護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000"/>
                </a:solidFill>
                <a:latin typeface="ＭＳ 明朝"/>
                <a:ea typeface="ＭＳ 明朝"/>
              </a:rPr>
              <a:t>様々な立場の人たちが暮らす地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3"/>
          <p:cNvSpPr/>
          <p:nvPr/>
        </p:nvSpPr>
        <p:spPr>
          <a:xfrm>
            <a:off x="3374280" y="1730520"/>
            <a:ext cx="2238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高齢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障害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妊産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ec0000"/>
                </a:solidFill>
                <a:latin typeface="ＭＳ Ｐゴシック"/>
                <a:ea typeface="ＭＳ Ｐゴシック"/>
              </a:rPr>
              <a:t>乳幼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病気を抱えている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外国人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4"/>
          <p:cNvSpPr/>
          <p:nvPr/>
        </p:nvSpPr>
        <p:spPr>
          <a:xfrm>
            <a:off x="3041280" y="5553000"/>
            <a:ext cx="4699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　　</a:t>
            </a:r>
            <a:r>
              <a:rPr b="0" lang="ja-JP" sz="30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要援護者の介護に携わる人びと</a:t>
            </a:r>
            <a:r>
              <a:rPr b="0" lang="ja-JP" sz="3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　　</a:t>
            </a:r>
            <a:r>
              <a:rPr b="0" lang="ja-JP" sz="3000" spc="-1" strike="noStrike">
                <a:solidFill>
                  <a:srgbClr val="ec0000"/>
                </a:solidFill>
                <a:latin typeface="ＭＳ Ｐゴシック"/>
                <a:ea typeface="ＭＳ Ｐゴシック"/>
              </a:rPr>
              <a:t>子育て中の人</a:t>
            </a:r>
            <a:r>
              <a:rPr b="0" lang="ja-JP" sz="3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な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"/>
          <p:cNvSpPr/>
          <p:nvPr/>
        </p:nvSpPr>
        <p:spPr>
          <a:xfrm>
            <a:off x="2988360" y="49687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そして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1" descr=""/>
          <p:cNvPicPr/>
          <p:nvPr/>
        </p:nvPicPr>
        <p:blipFill>
          <a:blip r:embed="rId1"/>
          <a:stretch/>
        </p:blipFill>
        <p:spPr>
          <a:xfrm>
            <a:off x="3000240" y="2013120"/>
            <a:ext cx="3335400" cy="2528640"/>
          </a:xfrm>
          <a:prstGeom prst="rect">
            <a:avLst/>
          </a:prstGeom>
          <a:ln w="0">
            <a:noFill/>
          </a:ln>
        </p:spPr>
      </p:pic>
      <p:sp>
        <p:nvSpPr>
          <p:cNvPr id="131" name="テキスト ボックス 4"/>
          <p:cNvSpPr/>
          <p:nvPr/>
        </p:nvSpPr>
        <p:spPr>
          <a:xfrm>
            <a:off x="282600" y="81000"/>
            <a:ext cx="8604360" cy="76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支援の必要性と気をつけたいこころとからだのサ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　　　子どもに起こった変化　～東日本大震災の体験よ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6"/>
          <p:cNvSpPr/>
          <p:nvPr/>
        </p:nvSpPr>
        <p:spPr>
          <a:xfrm>
            <a:off x="1990800" y="1074600"/>
            <a:ext cx="50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洗濯機の音にもびくびくするようになっ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かすかな音で目が覚めてしまうようになっ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7"/>
          <p:cNvSpPr/>
          <p:nvPr/>
        </p:nvSpPr>
        <p:spPr>
          <a:xfrm>
            <a:off x="659880" y="292104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ひとりでトイレ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行けなくな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8"/>
          <p:cNvSpPr/>
          <p:nvPr/>
        </p:nvSpPr>
        <p:spPr>
          <a:xfrm>
            <a:off x="2847240" y="586728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ママの姿が見えないと慌てるようになっ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9"/>
          <p:cNvSpPr/>
          <p:nvPr/>
        </p:nvSpPr>
        <p:spPr>
          <a:xfrm>
            <a:off x="2267640" y="472752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指しゃぶりをするようにな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夜泣きをするようにな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テキスト ボックス 10"/>
          <p:cNvSpPr/>
          <p:nvPr/>
        </p:nvSpPr>
        <p:spPr>
          <a:xfrm>
            <a:off x="6846840" y="250524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過呼吸やじんましん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の症状がで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テキスト ボックス 11"/>
          <p:cNvSpPr/>
          <p:nvPr/>
        </p:nvSpPr>
        <p:spPr>
          <a:xfrm>
            <a:off x="6367320" y="3336840"/>
            <a:ext cx="280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お風呂に入れない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もあり、湿疹に悩ま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れ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テキスト ボックス 12"/>
          <p:cNvSpPr/>
          <p:nvPr/>
        </p:nvSpPr>
        <p:spPr>
          <a:xfrm>
            <a:off x="1522440" y="2013120"/>
            <a:ext cx="3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ec0000"/>
                </a:solidFill>
                <a:latin typeface="ＭＳ Ｐゴシック"/>
                <a:ea typeface="ＭＳ Ｐゴシック"/>
              </a:rPr>
              <a:t>乱暴になっ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ec0000"/>
                </a:solidFill>
                <a:latin typeface="ＭＳ Ｐゴシック"/>
                <a:ea typeface="ＭＳ Ｐゴシック"/>
              </a:rPr>
              <a:t>落ち着きがなくなっ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テキスト ボックス 13"/>
          <p:cNvSpPr/>
          <p:nvPr/>
        </p:nvSpPr>
        <p:spPr>
          <a:xfrm>
            <a:off x="6846480" y="526896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地震ごっこをするようになっ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8" descr="http://www.jrc.or.jp/l2/l3/vcms_images/Vcms3_00002061/VcContents_C-0/20110313041108/s_11_VcContents_C-0_VcContentsImage_C002.jpg"/>
          <p:cNvPicPr/>
          <p:nvPr/>
        </p:nvPicPr>
        <p:blipFill>
          <a:blip r:embed="rId1"/>
          <a:stretch/>
        </p:blipFill>
        <p:spPr>
          <a:xfrm>
            <a:off x="900000" y="992160"/>
            <a:ext cx="3203640" cy="2135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http://www.jrc.or.jp/l2/l3/vcms_images/Vcms3_00004247/VcContents_jpeq12D-23/20140221144350/s_2_VcContents_jpeq12D-23_VcContentsImage_jpeq12B023_i.jpg"/>
          <p:cNvPicPr/>
          <p:nvPr/>
        </p:nvPicPr>
        <p:blipFill>
          <a:blip r:embed="rId2"/>
          <a:stretch/>
        </p:blipFill>
        <p:spPr>
          <a:xfrm>
            <a:off x="4924440" y="992160"/>
            <a:ext cx="3139920" cy="2116080"/>
          </a:xfrm>
          <a:prstGeom prst="rect">
            <a:avLst/>
          </a:prstGeom>
          <a:ln w="0">
            <a:noFill/>
          </a:ln>
        </p:spPr>
      </p:pic>
      <p:sp>
        <p:nvSpPr>
          <p:cNvPr id="142" name="テキスト ボックス 10"/>
          <p:cNvSpPr/>
          <p:nvPr/>
        </p:nvSpPr>
        <p:spPr>
          <a:xfrm>
            <a:off x="2196000" y="3222720"/>
            <a:ext cx="171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揺れがおさまって、ぐちゃぐちゃの自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おんぶ紐で</a:t>
            </a:r>
            <a:r>
              <a:rPr b="1" lang="en-US" sz="2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0</a:t>
            </a:r>
            <a:r>
              <a:rPr b="1" lang="ja-JP" sz="2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歳児をおんぶ、</a:t>
            </a:r>
            <a:r>
              <a:rPr b="1" lang="en-US" sz="2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2</a:t>
            </a:r>
            <a:r>
              <a:rPr b="1" lang="ja-JP" sz="2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歳児を抱っこして外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どうしていいのかわからなかっ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テキスト ボックス 12"/>
          <p:cNvSpPr/>
          <p:nvPr/>
        </p:nvSpPr>
        <p:spPr>
          <a:xfrm>
            <a:off x="1071720" y="4237200"/>
            <a:ext cx="347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余震のたびに飛び起き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子どもを抱きしめ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テキスト ボックス 13"/>
          <p:cNvSpPr/>
          <p:nvPr/>
        </p:nvSpPr>
        <p:spPr>
          <a:xfrm>
            <a:off x="122400" y="5119560"/>
            <a:ext cx="398124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ミルクを求めて寒風の中、子どもを連れてスーパーの店頭販売に何時間も並んだ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ec0000"/>
                </a:solidFill>
                <a:latin typeface="ＭＳ Ｐゴシック"/>
                <a:ea typeface="ＭＳ Ｐゴシック"/>
              </a:rPr>
              <a:t>子ども用品が品不足で</a:t>
            </a:r>
            <a:r>
              <a:rPr b="1" lang="ja-JP" sz="2000" spc="-1" strike="noStrike">
                <a:solidFill>
                  <a:srgbClr val="ec0000"/>
                </a:solidFill>
                <a:latin typeface="ＭＳ Ｐゴシック"/>
                <a:ea typeface="ＭＳ Ｐゴシック"/>
              </a:rPr>
              <a:t>買えなかった</a:t>
            </a:r>
            <a:r>
              <a:rPr b="1" lang="ja-JP" sz="1900" spc="-1" strike="noStrike">
                <a:solidFill>
                  <a:srgbClr val="ec0000"/>
                </a:solidFill>
                <a:latin typeface="ＭＳ Ｐゴシック"/>
                <a:ea typeface="ＭＳ Ｐゴシック"/>
              </a:rPr>
              <a:t>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テキスト ボックス 14"/>
          <p:cNvSpPr/>
          <p:nvPr/>
        </p:nvSpPr>
        <p:spPr>
          <a:xfrm>
            <a:off x="6321600" y="3328920"/>
            <a:ext cx="254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授乳場所がなかった</a:t>
            </a: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15"/>
          <p:cNvSpPr/>
          <p:nvPr/>
        </p:nvSpPr>
        <p:spPr>
          <a:xfrm>
            <a:off x="4608360" y="5942160"/>
            <a:ext cx="42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ＭＳ Ｐゴシック"/>
                <a:ea typeface="ＭＳ Ｐゴシック"/>
              </a:rPr>
              <a:t>赤ちゃんの夜泣きがうるさいと言われ、避難所から自宅に戻っ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テキスト ボックス 17"/>
          <p:cNvSpPr/>
          <p:nvPr/>
        </p:nvSpPr>
        <p:spPr>
          <a:xfrm>
            <a:off x="4924440" y="4913280"/>
            <a:ext cx="364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子どもが苦手な方がいたため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にらまれてしまっ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テキスト ボックス 18"/>
          <p:cNvSpPr/>
          <p:nvPr/>
        </p:nvSpPr>
        <p:spPr>
          <a:xfrm>
            <a:off x="4924440" y="38829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おふろに入れてあげられなかった。衛生面が心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11"/>
          <p:cNvSpPr/>
          <p:nvPr/>
        </p:nvSpPr>
        <p:spPr>
          <a:xfrm>
            <a:off x="2309400" y="262080"/>
            <a:ext cx="4376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お母さんの声　～東日本大震災の体験よ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3:26:56Z</dcterms:created>
  <dc:creator>j-takenaka</dc:creator>
  <dc:description/>
  <dc:language>en-US</dc:language>
  <cp:lastModifiedBy>横井 利津子</cp:lastModifiedBy>
  <cp:lastPrinted>2014-10-09T00:02:12Z</cp:lastPrinted>
  <dcterms:modified xsi:type="dcterms:W3CDTF">2015-03-03T01:41:34Z</dcterms:modified>
  <cp:revision>612</cp:revision>
  <dc:subject/>
  <dc:title>スライド 1</dc:title>
</cp:coreProperties>
</file>